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12E-D814-4305-A744-36718885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726-A3D0-4603-8313-543B702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6D9-1967-4A8A-AD81-A5D841DC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F41-C1C3-4E74-8C08-D163D753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FBC0-5EF4-438A-8429-BA6DC3F9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468-B840-45C1-B02B-C3DB1CD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7743-F697-426C-B2DD-DCAAFAE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D44C-570E-41A6-909B-94B8701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2121-8BD9-4BAA-8FF3-09850597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2DAC-67B5-4E83-A9D8-7E21FCB7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BA6C-6AA0-4E04-8A23-728097C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6AD-172F-4F9C-AFA3-FBA4F167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4BC2-ED20-4AE1-BA5A-24DD390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E99D-4125-437B-ACE2-2A23A0F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CB5-068B-47C6-8DA9-8768821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DA4D-0FEE-453E-A828-CAE5C5E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C72-E514-46F3-8A35-CA76F561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D15-CD8F-4355-A208-8FD271B7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B70-34DF-4F07-9419-CBBB3EB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FCB-B312-4FE3-881C-1B5751E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155-8B20-4770-8C15-70A76A9D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C10-6242-410B-B25F-3E138BD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D54-6B30-42C7-83EB-F0187399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1F-2FBF-41F2-99FC-294065BA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F8B5-3A09-42C2-B88C-BE0782533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79D4-BD3B-495D-8C60-4B310F932F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ajor  Social Institutions -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Economic Institution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Human behavior is mainly concerned satisf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It is centered on the tas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The most absorbing interest of m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Bring about changes in the environ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This aspect of man’s activity constitu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Arial"/>
                <a:ea typeface="Arial"/>
              </a:rPr>
              <a:t>We cannot isolate ourselves from econom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icroeconomics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Vs. </a:t>
            </a:r>
            <a:br>
              <a:rPr sz="6000"/>
            </a:br>
            <a:r>
              <a:rPr b="1" i="1" lang="en-US" sz="6000" spc="-1" strike="noStrike">
                <a:solidFill>
                  <a:srgbClr val="ff3c9d"/>
                </a:solidFill>
                <a:latin typeface="Times New Roman"/>
              </a:rPr>
              <a:t>Macroeconomics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croeconomics – concerned with the specific economic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croeconomics – concerned the economy as whol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What are the basic economic problem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What  goods and services to produ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certain good or services becomes profit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2.     How  to produce goods and servic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problem of production technology or metho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When are the goods and service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3c9d"/>
                </a:solidFill>
                <a:latin typeface="Times New Roman"/>
              </a:rPr>
              <a:t>- this is the problem of distribu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9:52:32Z</dcterms:created>
  <dc:creator>West Central School District</dc:creator>
  <dc:description/>
  <dc:language>en-US</dc:language>
  <cp:lastModifiedBy>Online</cp:lastModifiedBy>
  <dcterms:modified xsi:type="dcterms:W3CDTF">2012-02-28T12:40:26Z</dcterms:modified>
  <cp:revision>19</cp:revision>
  <dc:subject/>
  <dc:title>Parts of the plant and their functions</dc:title>
</cp:coreProperties>
</file>